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A776-B347-4D59-A21E-7A1D261972A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59E1-89D2-439B-912F-DDCCBBCBBA9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44DF-2965-49F7-BBF4-31AEFAE8CCD7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436F-6298-469A-A3EB-9F913DB34709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8CEC-5E34-4B49-9C9B-9C4DF9748F90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587-C963-4368-BB6E-655E8B53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DF1-9F67-4432-91AB-0908667A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8BC8-940A-4BF8-BFE6-C6015BE5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648-9E73-4D24-BEA7-A62E8A70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1541-A8A9-4564-B1E2-5E0336C2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73CE-BBA5-4CF9-9114-60A26C68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6EAC-61A0-4231-9815-74B4B1C4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3488-2B41-45F4-A6F0-6A04A0AC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05B7-21B2-4A6D-B695-6377C5CA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A6E5-8C1F-4B2C-83E7-6F2358F9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EB8B-BD87-4F56-BB33-39F05366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FDD-54C3-4993-A748-E48695BE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CF96-7F83-433A-89D4-F859C83E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C857-D7A7-4C0F-A930-049858FC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C05B-4BA7-44F3-AFCD-99A69C9F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D72F-76A1-4C80-8DFC-04E67903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0721-F26C-4160-BED1-A30B15E9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33C-D8E6-450C-8619-7F735226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E92-03EB-48B6-85E9-50C884F6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2D5-5C94-4007-A05A-D22B74D1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CF9-A882-4DE1-872A-750607C4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CDE-2222-47C7-B17C-177CACC3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7FF-F676-4DC9-ABF5-34B69D7B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69D-872E-47CC-96E2-D9C3F595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BDCC-EBD8-4A63-8A9F-6726BA7E571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E73A-48CA-4DE5-94DA-1479B4DEF017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eed.hu/cikkek/gyik#Slide 9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ép 3" descr="doctor-main_Full.jpg"/>
          <p:cNvPicPr/>
          <p:nvPr/>
        </p:nvPicPr>
        <p:blipFill>
          <a:blip r:embed="rId1"/>
          <a:stretch/>
        </p:blipFill>
        <p:spPr>
          <a:xfrm>
            <a:off x="0" y="0"/>
            <a:ext cx="4286160" cy="6697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0" y="213840"/>
            <a:ext cx="49291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Egyéni</a:t>
            </a:r>
            <a:br>
              <a:rPr sz="4400"/>
            </a:b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vállalkozásu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00720" y="4071600"/>
            <a:ext cx="427176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ominis b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Élőláb helye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Marke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óról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lakát (főleg egészségügyi intézményekb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i dí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Arcul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loge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ok megszer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logen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még nem reklamált senki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a beteg az első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atékony gyógyítás a legmodernebb eszközökk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Évenkénti ingyenes szűrés állandó ügyfeleinkn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iztosít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lelősség 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ővítési lehető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öbb orvos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itkárnő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poló, ápolónő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yógytornász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iagnosztika (tőkeigény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C:\Documents and Settings\Ati\Asztal\tarstori\orvos_640.jpg"/>
          <p:cNvPicPr/>
          <p:nvPr/>
        </p:nvPicPr>
        <p:blipFill>
          <a:blip r:embed="rId2"/>
          <a:stretch/>
        </p:blipFill>
        <p:spPr>
          <a:xfrm>
            <a:off x="714240" y="2071800"/>
            <a:ext cx="7712280" cy="397656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Forrás(ok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seed.hu/cikkek/gyik#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magyarorszag.hu/vallalkozas/ugyek/vallalkmuk/engedelyvallalk/uzlmukeng20090319.html/ugyleirasjog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fhb.hu/vallalatok/szamla_megtakaritas/vallalati_bankszamla_csomagok/vallalati_bankszamla_csomag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interport.hu/Cegalapitas/Cegalapitas-Modositas-Kft-Bt-alapitas-onlin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ceghmester.hu/index.php?mode=menu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antsz.hu/baranya/ugyfel/kerelemmintak/Engelj.p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Prof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rvosi vállalkozásunk egy egészségügyi szolgáltató  betéti társaság. Többféle szolgáltatást nyújtunk. Orvosaink a szakma elismert képviselői. Korszerű eszközökkel dolgozunk, az Európai Uniós normáknak megfelelően. Már bizonyítottan eredményes új eljárásokat is alkalmazun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Tevékenységi területe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áró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kvő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kta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szettudományi kutatás és fejlesz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imes New Roman"/>
              </a:rPr>
              <a:t>Szükséges személyi minimál feltétele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ét orvosi diplomával és megfelelő tapasztalattal,  referenciákkal rendelkező személy (a kapcsolati tőke előnyt jel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Ügyvé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engedély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PE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égnyilvántar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NTS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ankszám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ársasági szer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anyagi feltétel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dulótő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eph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Működési engedély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0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z eljárási illeték összege :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5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Eljárási díj telephelyenként (ÁNTSZ-nek fizetendő, új és módosított engedély esetében egyaránt)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7.400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Cégalapítás, Bt alapítás, Kft alapí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39.000,- Ft + Áfa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[ az ár tartalmazza az aláírási címpéldányokat] + illeték és közzétételi díj [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0.000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] –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Bankszámlanyi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0 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 minimális indulótőke összesen: kb </a:t>
            </a:r>
            <a:r>
              <a:rPr b="1" lang="hu-HU" sz="3200" spc="-1" strike="noStrike">
                <a:solidFill>
                  <a:srgbClr val="ffffff"/>
                </a:solidFill>
                <a:latin typeface="Arial Unicode MS"/>
              </a:rPr>
              <a:t>330.000 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(2fős bt. esetén)</a:t>
            </a:r>
            <a:br>
              <a:rPr sz="3200"/>
            </a:b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Egyéb költ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rk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ítógépes rendszer az adatok nyilvántartásá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3:11:57Z</dcterms:created>
  <dc:creator>Petr Widimský</dc:creator>
  <dc:description/>
  <dc:language>en-US</dc:language>
  <cp:lastModifiedBy>Jakab</cp:lastModifiedBy>
  <dcterms:modified xsi:type="dcterms:W3CDTF">2010-07-05T21:43:53Z</dcterms:modified>
  <cp:revision>109</cp:revision>
  <dc:subject/>
  <dc:title>METAANALYSIS OF THE PRAGUE 1 + 2 STUDIES</dc:title>
</cp:coreProperties>
</file>